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5BA-6638-48C2-9C6B-0132E4C4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159-B57E-46A7-B723-E5FF9C5F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01C-EDA0-4ABD-838E-690EDF48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870-5DBF-492B-BFDB-22249640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B5A-84E2-48C7-A791-B5C4228A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840-583A-417A-B340-A28CFB0D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875-2D86-4D59-AF3D-1AEC4D9F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65D-362F-47C4-BB2B-D415C738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EEB-4ADB-4963-8DCF-76D7A0DC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32E-5E13-4148-857A-A1F524E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F1A-17BD-40F8-ACA4-60D11AB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D9A-191A-45CE-ADC4-21F9B39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47A6-2F6A-4C51-BF30-0D34F0D7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33360" y="1206360"/>
            <a:ext cx="6191280" cy="874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内 服 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6240" y="3209760"/>
            <a:ext cx="40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お名前：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HG丸ｺﾞｼｯｸM-PRO"/>
                <a:ea typeface="HG丸ｺﾞｼｯｸM-PRO"/>
              </a:rPr>
              <a:t> ○○○　○○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292640" y="14479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治験薬 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: </a:t>
            </a: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● ● ● 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50880" y="4305240"/>
            <a:ext cx="532764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ja-JP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日１回　朝食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ja-JP" sz="2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</a:t>
            </a:r>
            <a:r>
              <a:rPr b="1" lang="ja-JP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回　２錠　</a:t>
            </a:r>
            <a:r>
              <a:rPr b="1" lang="ja-JP" sz="3200" spc="-1" strike="noStrike" u="sng">
                <a:solidFill>
                  <a:srgbClr val="ff0000"/>
                </a:solidFill>
                <a:uFillTx/>
                <a:latin typeface="HG丸ｺﾞｼｯｸM-PRO"/>
                <a:ea typeface="HG丸ｺﾞｼｯｸM-PRO"/>
              </a:rPr>
              <a:t>２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HG丸ｺﾞｼｯｸM-PRO"/>
                <a:ea typeface="HG丸ｺﾞｼｯｸM-PRO"/>
              </a:rPr>
              <a:t>8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8600" y="2330280"/>
            <a:ext cx="35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● ● ●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04640" y="4160880"/>
            <a:ext cx="5975640" cy="23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2760" y="7905600"/>
            <a:ext cx="46083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</a:t>
            </a:r>
            <a:r>
              <a:rPr b="0" lang="zh-TW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中部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さい</a:t>
            </a:r>
            <a:r>
              <a:rPr b="0" lang="zh-TW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病院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愛知県名古屋市港区港明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丁目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番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052-652-55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http://www.chubuh.johas.go.j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04640" y="6823080"/>
            <a:ext cx="597852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残ったお薬及び空シート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この薬袋ごと担当医師にお持ち下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89480" y="8002440"/>
          <a:ext cx="1255680" cy="1368720"/>
        </p:xfrm>
        <a:graphic>
          <a:graphicData uri="http://schemas.openxmlformats.org/drawingml/2006/table">
            <a:tbl>
              <a:tblPr/>
              <a:tblGrid>
                <a:gridCol w="1255680"/>
              </a:tblGrid>
              <a:tr h="417600">
                <a:tc>
                  <a:txBody>
                    <a:bodyPr lIns="132840" rIns="132840" tIns="66600" bIns="66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調剤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2840" marR="132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132840" rIns="132840" tIns="66600" bIns="666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4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㊞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2840" marR="132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08:40:50Z</dcterms:created>
  <dc:creator>IT企画推進部</dc:creator>
  <dc:description/>
  <dc:language>en-US</dc:language>
  <cp:lastModifiedBy>みさねえ</cp:lastModifiedBy>
  <dcterms:modified xsi:type="dcterms:W3CDTF">2016-03-09T03:01:11Z</dcterms:modified>
  <cp:revision>38</cp:revision>
  <dc:subject/>
  <dc:title>スライド 1</dc:title>
</cp:coreProperties>
</file>